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938-3917-4F9D-B293-83EB3454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483-131E-4FDC-857D-8741A5D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579-E434-4749-9028-AA88AB27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5D7-CC3E-4501-B5E4-17A2DE41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A16-A1FF-43DF-88A7-FEAD618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30E-3E59-443D-BD0E-5EE7B92E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244-A2DB-4E9E-A1CD-05F7502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17A-2AAC-4D34-9D0D-D2BF043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6E9-8521-4A7D-A13D-2A45EB5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7B7-B9EB-48A5-8C73-3721215B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62F-DB88-4B56-8C3E-6A1E2B1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29C-C4A7-4E50-9A16-3664B5B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AB3-06E6-40C1-88EC-B25087D2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311560" y="838080"/>
            <a:ext cx="8534160" cy="495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6334200" y="647784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3120" y="6705720"/>
            <a:ext cx="931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tuned for the next session where we will expl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chart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ethean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8:11:51Z</dcterms:created>
  <dc:creator>margaret.lindler</dc:creator>
  <dc:description/>
  <dc:language>en-US</dc:language>
  <cp:lastModifiedBy>margaret.lindler</cp:lastModifiedBy>
  <dcterms:modified xsi:type="dcterms:W3CDTF">2008-07-24T18:22:42Z</dcterms:modified>
  <cp:revision>2</cp:revision>
  <dc:subject/>
  <dc:title>Slide 1</dc:title>
</cp:coreProperties>
</file>